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443-D935-4249-B7A3-0ADF792B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8EB-80F4-4208-95EA-1155D0FC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AE6-1B5E-4710-98AB-DB590C9E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CF1-CEB1-4548-B3CC-05CBBE0C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15D-7B83-475C-8858-2709ABAE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50C-EE3D-4276-9ED7-74F6B5FC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553D-6DAC-4574-B439-34046A95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8211-D98B-44BD-B663-0673609B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BFCA-BAC3-47DD-929E-25B81BD3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0B06-847E-4BCA-A062-5B2C047A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7A8A-32BD-42FE-99D7-DC079983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4B4-7AF9-4589-A558-DBA51185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CE59-1632-441B-8160-95E8A6590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Qué le pasó a Mar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Un día Maria amaneció de mal humor. Le dolía la cabeza.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No quería comer:No quería jugar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y tampoco quería ir a la escue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ntonces como Maria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no quería comer,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mpezó a adelgaz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7694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os papás de Maria pensaron que estaba enferma, por que estaba de mal humor, no quería comer, no quería ir a la escuela y no quería jug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82803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ntonces los papás de Maria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a llevaron al doctor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y el doctor dijo que tenia lombri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35280" y="30686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l doctor explico que a vece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tenemos lombrices por que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no nos lavamos las man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antes de com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90600" y="2781360"/>
            <a:ext cx="47628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a que a Maria se le quitaran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s lombrices, el medico le dio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unas medicinas y después de una semana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aria ya se sentía mej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7577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l medico se alegro mucho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e que Maria ya no tuviera lombrice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y le dijo que ya estaba curad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90600" y="2349360"/>
            <a:ext cx="47628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ambién le dijo que se tenia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que lavar las manos muy bien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ntes de comer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aria ya se había cur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12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1:42:01Z</dcterms:created>
  <dc:creator>hp</dc:creator>
  <dc:description/>
  <dc:language>en-US</dc:language>
  <cp:lastModifiedBy>Javier</cp:lastModifiedBy>
  <dcterms:modified xsi:type="dcterms:W3CDTF">2008-02-07T00:38:14Z</dcterms:modified>
  <cp:revision>3</cp:revision>
  <dc:subject/>
  <dc:title>¿Qué le pasó a Maria?</dc:title>
</cp:coreProperties>
</file>